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3A80-3B2F-4AF9-B94F-7EAF9B78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C82-9ECC-427B-B4F7-3F203FBFD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CDC4-3DAD-4253-A5BF-8AFA3056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B7AA-3FD9-4A8E-AAA7-442C815D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0FD1-6154-4289-B8BD-6B05F1360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36FF2-D50B-4019-ABED-53AA56BF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4BF4-0FBE-43F7-A756-D3552E07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EF60-2858-41E9-8AF7-7D8A66E5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718F2-5732-4F88-B089-48D997664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F0010-A0DF-4205-9558-91243371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D794-14C3-497A-B81A-613329032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95D-8A4D-4519-BCDF-9383F0C5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520C9-5665-4A7B-B858-B3035611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D35DC-7741-4591-BB82-DD5D4C4D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4DD11-869C-4BB9-97D0-FD9525F5B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BE104-57D7-4466-9633-7C639B5CF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2628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90600" y="342900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36232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52628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90600" y="4185360"/>
            <a:ext cx="20606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36993-11BF-40C6-9C86-B24E73C04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5F95-6BFB-4231-879C-3C10CB39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E092-AD14-4A33-93B3-EA1350B9F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558-E995-47CB-8504-BDD4AB80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37720" y="1371240"/>
            <a:ext cx="7620120" cy="95382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F91D-B62E-4BC1-8D07-386885934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0E68-D2BE-48C2-B392-9DD7433C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42280" y="418536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047-BB5D-47BF-8AC1-DBC33092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36232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42280" y="3429000"/>
            <a:ext cx="312336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362320" y="4185360"/>
            <a:ext cx="640080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6834-4C4F-433F-BADE-8A6D7CAA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EF98-DD95-40B5-A0F7-18CF48D0F8F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7B6F-BB4C-4A10-829D-459A1704CE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ea Level Forecast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05120" y="358128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rning signs are already appearing, including higher tides and coastal flooring's, less rainfall and diminishing freshwater supplies, as well as bleaching of some coral reefs that cradle Kiribati's isl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6:34:02Z</dcterms:created>
  <dc:creator>PA Department of Education</dc:creator>
  <dc:description/>
  <dc:language>en-US</dc:language>
  <cp:lastModifiedBy>PA Department of Education</cp:lastModifiedBy>
  <dcterms:modified xsi:type="dcterms:W3CDTF">2009-05-27T16:37:30Z</dcterms:modified>
  <cp:revision>4</cp:revision>
  <dc:subject/>
  <dc:title>Sea Level Forecasting</dc:title>
</cp:coreProperties>
</file>